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97531"/>
        <c:axId val="58881049"/>
      </c:barChart>
      <c:catAx>
        <c:axId val="47597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81049"/>
        <c:crosses val="autoZero"/>
        <c:auto val="1"/>
        <c:lblAlgn val="ctr"/>
        <c:lblOffset val="100"/>
        <c:noMultiLvlLbl val="0"/>
      </c:catAx>
      <c:valAx>
        <c:axId val="58881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97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89F-541A-4898-8D5B-5ADC9FCD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505-CB79-457F-B2C2-FBF0E7A4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DFC-214F-478D-92A1-A34E2100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E48-709E-4C6D-A5AD-907A4DB7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0DD-8C82-46FD-9D2B-540D5CA2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CDA-A02C-44CB-BF5B-49814471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95A-05AF-4862-A19E-E9A736DC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CC0-1B64-43D9-A501-0B5A938B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42A-AC26-48AB-AC02-B5F07F8A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0D2-2F3B-4F76-B1CD-857DEF35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AB6-8E8B-4409-96F5-C3EDD290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2BE-C4AF-4AD5-AB49-382DA40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BA9C4-0D5E-4847-B067-14166C167F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